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DD0B9-7E23-4507-80D1-E208667A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77D8-77C6-4028-9037-5B4028ED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631C9-A105-4D6B-A1B7-7B2387AC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2EC32-2430-4488-BF21-8344FC71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9D0B-F265-44C0-8F28-76964479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78BB-A2B8-4A8E-A02B-2168B6EF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CD0D-0681-4B1E-9404-19B01F87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1BBA-50E9-40AE-B95D-FD35AD74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AC9E-B702-4CB8-A35F-512DA2DA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220E-597F-4772-A7D5-0BEB0F92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3194-E38A-42EA-8B1F-BF796483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C1DCC-D2E3-4F76-A75D-E5659958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F7CC-EC47-4530-A2DB-6519C225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91EF-4FE9-4CAA-BC3D-A6B2C03E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CE52-3BAB-4C20-A84E-C8273F89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79D4-F4B1-44E7-86EB-28527F92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BC29-EF3D-424F-922A-A3041EBE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C47BC-1AC2-4C4E-B1A3-A4D95CAC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01A97-05C0-4954-9237-BA94E028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BF1E8-2466-4B49-9959-E54BCDD4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5BCC6-DD26-499F-B495-175FE916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CEFAC-549B-459E-8B83-CF458B92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D5EAE-29C4-4FC1-9818-3067DCE1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CBE2E-AE9A-4858-8422-ACE93AF0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8D8F-1D23-4DD8-9AC4-44716371B8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BC22-88BF-4802-BA12-9A0A7784F3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word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eyword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word cipher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15240" y="2967120"/>
            <a:ext cx="645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 select a keyword - if any letters are repeated drop the seco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all other occurrences from the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40880" y="4222800"/>
            <a:ext cx="62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 write the keyword below the alphabet, fill in the rest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ace with the remaining letters in the alphabet in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AAF41-E7FE-4245-ACCD-3878F7C7A1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keyword is 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62760" y="3560760"/>
            <a:ext cx="7930080" cy="425160"/>
            <a:chOff x="662760" y="3560760"/>
            <a:chExt cx="7930080" cy="425160"/>
          </a:xfrm>
        </p:grpSpPr>
        <p:grpSp>
          <p:nvGrpSpPr>
            <p:cNvPr id="120" name=""/>
            <p:cNvGrpSpPr/>
            <p:nvPr/>
          </p:nvGrpSpPr>
          <p:grpSpPr>
            <a:xfrm>
              <a:off x="1633320" y="3560760"/>
              <a:ext cx="333000" cy="368280"/>
              <a:chOff x="1633320" y="3560760"/>
              <a:chExt cx="333000" cy="368280"/>
            </a:xfrm>
          </p:grpSpPr>
          <p:sp>
            <p:nvSpPr>
              <p:cNvPr id="121" name=""/>
              <p:cNvSpPr/>
              <p:nvPr/>
            </p:nvSpPr>
            <p:spPr>
              <a:xfrm>
                <a:off x="16380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333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1900080" y="3560760"/>
              <a:ext cx="333000" cy="368280"/>
              <a:chOff x="1900080" y="3560760"/>
              <a:chExt cx="333000" cy="368280"/>
            </a:xfrm>
          </p:grpSpPr>
          <p:sp>
            <p:nvSpPr>
              <p:cNvPr id="124" name=""/>
              <p:cNvSpPr/>
              <p:nvPr/>
            </p:nvSpPr>
            <p:spPr>
              <a:xfrm>
                <a:off x="19047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000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166840" y="3560760"/>
              <a:ext cx="345240" cy="368280"/>
              <a:chOff x="2166840" y="3560760"/>
              <a:chExt cx="345240" cy="3682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7116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16684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433600" y="3560760"/>
              <a:ext cx="345240" cy="368280"/>
              <a:chOff x="2433600" y="3560760"/>
              <a:chExt cx="345240" cy="368280"/>
            </a:xfrm>
          </p:grpSpPr>
          <p:sp>
            <p:nvSpPr>
              <p:cNvPr id="130" name=""/>
              <p:cNvSpPr/>
              <p:nvPr/>
            </p:nvSpPr>
            <p:spPr>
              <a:xfrm>
                <a:off x="24379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3360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690640" y="3560760"/>
              <a:ext cx="333000" cy="368280"/>
              <a:chOff x="2690640" y="3560760"/>
              <a:chExt cx="333000" cy="368280"/>
            </a:xfrm>
          </p:grpSpPr>
          <p:sp>
            <p:nvSpPr>
              <p:cNvPr id="133" name=""/>
              <p:cNvSpPr/>
              <p:nvPr/>
            </p:nvSpPr>
            <p:spPr>
              <a:xfrm>
                <a:off x="26953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906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957040" y="3560760"/>
              <a:ext cx="320760" cy="368280"/>
              <a:chOff x="2957040" y="3560760"/>
              <a:chExt cx="320760" cy="368280"/>
            </a:xfrm>
          </p:grpSpPr>
          <p:sp>
            <p:nvSpPr>
              <p:cNvPr id="136" name=""/>
              <p:cNvSpPr/>
              <p:nvPr/>
            </p:nvSpPr>
            <p:spPr>
              <a:xfrm>
                <a:off x="296208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95704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223800" y="3560760"/>
              <a:ext cx="358920" cy="368280"/>
              <a:chOff x="3223800" y="3560760"/>
              <a:chExt cx="358920" cy="368280"/>
            </a:xfrm>
          </p:grpSpPr>
          <p:sp>
            <p:nvSpPr>
              <p:cNvPr id="139" name=""/>
              <p:cNvSpPr/>
              <p:nvPr/>
            </p:nvSpPr>
            <p:spPr>
              <a:xfrm>
                <a:off x="322848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2380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490920" y="3560760"/>
              <a:ext cx="345240" cy="368280"/>
              <a:chOff x="3490920" y="3560760"/>
              <a:chExt cx="345240" cy="368280"/>
            </a:xfrm>
          </p:grpSpPr>
          <p:sp>
            <p:nvSpPr>
              <p:cNvPr id="142" name=""/>
              <p:cNvSpPr/>
              <p:nvPr/>
            </p:nvSpPr>
            <p:spPr>
              <a:xfrm>
                <a:off x="349524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49092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6960" y="3560760"/>
              <a:ext cx="271440" cy="368280"/>
              <a:chOff x="3756960" y="3560760"/>
              <a:chExt cx="271440" cy="36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620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756960" y="35607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023720" y="3560760"/>
              <a:ext cx="295200" cy="368280"/>
              <a:chOff x="4023720" y="3560760"/>
              <a:chExt cx="295200" cy="368280"/>
            </a:xfrm>
          </p:grpSpPr>
          <p:sp>
            <p:nvSpPr>
              <p:cNvPr id="148" name=""/>
              <p:cNvSpPr/>
              <p:nvPr/>
            </p:nvSpPr>
            <p:spPr>
              <a:xfrm>
                <a:off x="40287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023720" y="35607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290840" y="3560760"/>
              <a:ext cx="333000" cy="368280"/>
              <a:chOff x="4290840" y="3560760"/>
              <a:chExt cx="333000" cy="368280"/>
            </a:xfrm>
          </p:grpSpPr>
          <p:sp>
            <p:nvSpPr>
              <p:cNvPr id="151" name=""/>
              <p:cNvSpPr/>
              <p:nvPr/>
            </p:nvSpPr>
            <p:spPr>
              <a:xfrm>
                <a:off x="42955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908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557600" y="3560760"/>
              <a:ext cx="307080" cy="368280"/>
              <a:chOff x="4557600" y="3560760"/>
              <a:chExt cx="307080" cy="368280"/>
            </a:xfrm>
          </p:grpSpPr>
          <p:sp>
            <p:nvSpPr>
              <p:cNvPr id="154" name=""/>
              <p:cNvSpPr/>
              <p:nvPr/>
            </p:nvSpPr>
            <p:spPr>
              <a:xfrm>
                <a:off x="45619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57600" y="356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824360" y="3560760"/>
              <a:ext cx="371160" cy="368280"/>
              <a:chOff x="4824360" y="3560760"/>
              <a:chExt cx="371160" cy="368280"/>
            </a:xfrm>
          </p:grpSpPr>
          <p:sp>
            <p:nvSpPr>
              <p:cNvPr id="157" name=""/>
              <p:cNvSpPr/>
              <p:nvPr/>
            </p:nvSpPr>
            <p:spPr>
              <a:xfrm>
                <a:off x="482904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824360" y="356076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091120" y="3560760"/>
              <a:ext cx="345240" cy="368280"/>
              <a:chOff x="5091120" y="3560760"/>
              <a:chExt cx="345240" cy="368280"/>
            </a:xfrm>
          </p:grpSpPr>
          <p:sp>
            <p:nvSpPr>
              <p:cNvPr id="160" name=""/>
              <p:cNvSpPr/>
              <p:nvPr/>
            </p:nvSpPr>
            <p:spPr>
              <a:xfrm>
                <a:off x="509544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9112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5357520" y="3560760"/>
              <a:ext cx="358920" cy="368280"/>
              <a:chOff x="5357520" y="3560760"/>
              <a:chExt cx="358920" cy="368280"/>
            </a:xfrm>
          </p:grpSpPr>
          <p:sp>
            <p:nvSpPr>
              <p:cNvPr id="163" name=""/>
              <p:cNvSpPr/>
              <p:nvPr/>
            </p:nvSpPr>
            <p:spPr>
              <a:xfrm>
                <a:off x="53622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35752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624280" y="3560760"/>
              <a:ext cx="333000" cy="368280"/>
              <a:chOff x="5624280" y="3560760"/>
              <a:chExt cx="333000" cy="368280"/>
            </a:xfrm>
          </p:grpSpPr>
          <p:sp>
            <p:nvSpPr>
              <p:cNvPr id="166" name=""/>
              <p:cNvSpPr/>
              <p:nvPr/>
            </p:nvSpPr>
            <p:spPr>
              <a:xfrm>
                <a:off x="56289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6242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890680" y="3560760"/>
              <a:ext cx="358920" cy="368280"/>
              <a:chOff x="5890680" y="3560760"/>
              <a:chExt cx="358920" cy="368280"/>
            </a:xfrm>
          </p:grpSpPr>
          <p:sp>
            <p:nvSpPr>
              <p:cNvPr id="169" name=""/>
              <p:cNvSpPr/>
              <p:nvPr/>
            </p:nvSpPr>
            <p:spPr>
              <a:xfrm>
                <a:off x="58957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9068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157800" y="3560760"/>
              <a:ext cx="345240" cy="368280"/>
              <a:chOff x="6157800" y="3560760"/>
              <a:chExt cx="345240" cy="368280"/>
            </a:xfrm>
          </p:grpSpPr>
          <p:sp>
            <p:nvSpPr>
              <p:cNvPr id="172" name=""/>
              <p:cNvSpPr/>
              <p:nvPr/>
            </p:nvSpPr>
            <p:spPr>
              <a:xfrm>
                <a:off x="61621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5780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414840" y="3560760"/>
              <a:ext cx="333000" cy="368280"/>
              <a:chOff x="6414840" y="3560760"/>
              <a:chExt cx="333000" cy="368280"/>
            </a:xfrm>
          </p:grpSpPr>
          <p:sp>
            <p:nvSpPr>
              <p:cNvPr id="175" name=""/>
              <p:cNvSpPr/>
              <p:nvPr/>
            </p:nvSpPr>
            <p:spPr>
              <a:xfrm>
                <a:off x="64195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148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681240" y="3560760"/>
              <a:ext cx="320760" cy="368280"/>
              <a:chOff x="6681240" y="3560760"/>
              <a:chExt cx="320760" cy="368280"/>
            </a:xfrm>
          </p:grpSpPr>
          <p:sp>
            <p:nvSpPr>
              <p:cNvPr id="178" name=""/>
              <p:cNvSpPr/>
              <p:nvPr/>
            </p:nvSpPr>
            <p:spPr>
              <a:xfrm>
                <a:off x="668628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8124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948360" y="3560760"/>
              <a:ext cx="345240" cy="368280"/>
              <a:chOff x="6948360" y="3560760"/>
              <a:chExt cx="345240" cy="368280"/>
            </a:xfrm>
          </p:grpSpPr>
          <p:sp>
            <p:nvSpPr>
              <p:cNvPr id="181" name=""/>
              <p:cNvSpPr/>
              <p:nvPr/>
            </p:nvSpPr>
            <p:spPr>
              <a:xfrm>
                <a:off x="695268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94836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7215120" y="3560760"/>
              <a:ext cx="333000" cy="368280"/>
              <a:chOff x="7215120" y="3560760"/>
              <a:chExt cx="333000" cy="368280"/>
            </a:xfrm>
          </p:grpSpPr>
          <p:sp>
            <p:nvSpPr>
              <p:cNvPr id="184" name=""/>
              <p:cNvSpPr/>
              <p:nvPr/>
            </p:nvSpPr>
            <p:spPr>
              <a:xfrm>
                <a:off x="72198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151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7481520" y="3560760"/>
              <a:ext cx="397080" cy="368280"/>
              <a:chOff x="7481520" y="3560760"/>
              <a:chExt cx="397080" cy="368280"/>
            </a:xfrm>
          </p:grpSpPr>
          <p:sp>
            <p:nvSpPr>
              <p:cNvPr id="187" name=""/>
              <p:cNvSpPr/>
              <p:nvPr/>
            </p:nvSpPr>
            <p:spPr>
              <a:xfrm>
                <a:off x="74862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81520" y="356076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738920" y="3560760"/>
              <a:ext cx="333000" cy="368280"/>
              <a:chOff x="7738920" y="3560760"/>
              <a:chExt cx="333000" cy="368280"/>
            </a:xfrm>
          </p:grpSpPr>
          <p:sp>
            <p:nvSpPr>
              <p:cNvPr id="190" name=""/>
              <p:cNvSpPr/>
              <p:nvPr/>
            </p:nvSpPr>
            <p:spPr>
              <a:xfrm>
                <a:off x="77436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7389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8005680" y="3560760"/>
              <a:ext cx="333000" cy="368280"/>
              <a:chOff x="8005680" y="3560760"/>
              <a:chExt cx="333000" cy="368280"/>
            </a:xfrm>
          </p:grpSpPr>
          <p:sp>
            <p:nvSpPr>
              <p:cNvPr id="193" name=""/>
              <p:cNvSpPr/>
              <p:nvPr/>
            </p:nvSpPr>
            <p:spPr>
              <a:xfrm>
                <a:off x="80103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0056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8272080" y="3560760"/>
              <a:ext cx="320760" cy="368280"/>
              <a:chOff x="8272080" y="3560760"/>
              <a:chExt cx="320760" cy="368280"/>
            </a:xfrm>
          </p:grpSpPr>
          <p:sp>
            <p:nvSpPr>
              <p:cNvPr id="196" name=""/>
              <p:cNvSpPr/>
              <p:nvPr/>
            </p:nvSpPr>
            <p:spPr>
              <a:xfrm>
                <a:off x="827676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27208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662760" y="3617640"/>
              <a:ext cx="10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58000" y="38466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662200" y="3836880"/>
            <a:ext cx="320760" cy="368280"/>
            <a:chOff x="2662200" y="3836880"/>
            <a:chExt cx="320760" cy="368280"/>
          </a:xfrm>
        </p:grpSpPr>
        <p:sp>
          <p:nvSpPr>
            <p:cNvPr id="201" name=""/>
            <p:cNvSpPr/>
            <p:nvPr/>
          </p:nvSpPr>
          <p:spPr>
            <a:xfrm>
              <a:off x="2676240" y="3924360"/>
              <a:ext cx="27612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6220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948040" y="3836880"/>
            <a:ext cx="333000" cy="368280"/>
            <a:chOff x="2948040" y="3836880"/>
            <a:chExt cx="333000" cy="368280"/>
          </a:xfrm>
        </p:grpSpPr>
        <p:sp>
          <p:nvSpPr>
            <p:cNvPr id="204" name=""/>
            <p:cNvSpPr/>
            <p:nvPr/>
          </p:nvSpPr>
          <p:spPr>
            <a:xfrm>
              <a:off x="2960640" y="3924360"/>
              <a:ext cx="25884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480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214800" y="3836880"/>
            <a:ext cx="333000" cy="368280"/>
            <a:chOff x="3214800" y="3836880"/>
            <a:chExt cx="333000" cy="368280"/>
          </a:xfrm>
        </p:grpSpPr>
        <p:sp>
          <p:nvSpPr>
            <p:cNvPr id="207" name=""/>
            <p:cNvSpPr/>
            <p:nvPr/>
          </p:nvSpPr>
          <p:spPr>
            <a:xfrm>
              <a:off x="3227400" y="392436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1480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481560" y="3836880"/>
            <a:ext cx="345240" cy="368280"/>
            <a:chOff x="3481560" y="3836880"/>
            <a:chExt cx="345240" cy="368280"/>
          </a:xfrm>
        </p:grpSpPr>
        <p:sp>
          <p:nvSpPr>
            <p:cNvPr id="210" name=""/>
            <p:cNvSpPr/>
            <p:nvPr/>
          </p:nvSpPr>
          <p:spPr>
            <a:xfrm>
              <a:off x="3493800" y="3924360"/>
              <a:ext cx="25884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815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748320" y="3836880"/>
            <a:ext cx="333000" cy="368280"/>
            <a:chOff x="3748320" y="3836880"/>
            <a:chExt cx="333000" cy="368280"/>
          </a:xfrm>
        </p:grpSpPr>
        <p:sp>
          <p:nvSpPr>
            <p:cNvPr id="213" name=""/>
            <p:cNvSpPr/>
            <p:nvPr/>
          </p:nvSpPr>
          <p:spPr>
            <a:xfrm>
              <a:off x="37612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483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281480" y="3836880"/>
            <a:ext cx="358920" cy="368280"/>
            <a:chOff x="4281480" y="3836880"/>
            <a:chExt cx="358920" cy="368280"/>
          </a:xfrm>
        </p:grpSpPr>
        <p:sp>
          <p:nvSpPr>
            <p:cNvPr id="216" name=""/>
            <p:cNvSpPr/>
            <p:nvPr/>
          </p:nvSpPr>
          <p:spPr>
            <a:xfrm>
              <a:off x="42948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8148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014720" y="3836880"/>
            <a:ext cx="320760" cy="368280"/>
            <a:chOff x="4014720" y="3836880"/>
            <a:chExt cx="320760" cy="368280"/>
          </a:xfrm>
        </p:grpSpPr>
        <p:sp>
          <p:nvSpPr>
            <p:cNvPr id="219" name=""/>
            <p:cNvSpPr/>
            <p:nvPr/>
          </p:nvSpPr>
          <p:spPr>
            <a:xfrm>
              <a:off x="402804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1472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814640" y="3836880"/>
            <a:ext cx="271440" cy="368280"/>
            <a:chOff x="4814640" y="3836880"/>
            <a:chExt cx="271440" cy="368280"/>
          </a:xfrm>
        </p:grpSpPr>
        <p:sp>
          <p:nvSpPr>
            <p:cNvPr id="222" name=""/>
            <p:cNvSpPr/>
            <p:nvPr/>
          </p:nvSpPr>
          <p:spPr>
            <a:xfrm>
              <a:off x="48279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14640" y="38368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548600" y="3836880"/>
            <a:ext cx="345240" cy="368280"/>
            <a:chOff x="4548600" y="3836880"/>
            <a:chExt cx="345240" cy="368280"/>
          </a:xfrm>
        </p:grpSpPr>
        <p:sp>
          <p:nvSpPr>
            <p:cNvPr id="225" name=""/>
            <p:cNvSpPr/>
            <p:nvPr/>
          </p:nvSpPr>
          <p:spPr>
            <a:xfrm>
              <a:off x="45612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4860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48520" y="3836880"/>
            <a:ext cx="333000" cy="368280"/>
            <a:chOff x="5348520" y="3836880"/>
            <a:chExt cx="333000" cy="368280"/>
          </a:xfrm>
        </p:grpSpPr>
        <p:sp>
          <p:nvSpPr>
            <p:cNvPr id="228" name=""/>
            <p:cNvSpPr/>
            <p:nvPr/>
          </p:nvSpPr>
          <p:spPr>
            <a:xfrm>
              <a:off x="53614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485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081400" y="3836880"/>
            <a:ext cx="295200" cy="368280"/>
            <a:chOff x="5081400" y="3836880"/>
            <a:chExt cx="295200" cy="368280"/>
          </a:xfrm>
        </p:grpSpPr>
        <p:sp>
          <p:nvSpPr>
            <p:cNvPr id="231" name=""/>
            <p:cNvSpPr/>
            <p:nvPr/>
          </p:nvSpPr>
          <p:spPr>
            <a:xfrm>
              <a:off x="509472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81400" y="3836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881680" y="3836880"/>
            <a:ext cx="371160" cy="368280"/>
            <a:chOff x="5881680" y="3836880"/>
            <a:chExt cx="371160" cy="368280"/>
          </a:xfrm>
        </p:grpSpPr>
        <p:sp>
          <p:nvSpPr>
            <p:cNvPr id="234" name=""/>
            <p:cNvSpPr/>
            <p:nvPr/>
          </p:nvSpPr>
          <p:spPr>
            <a:xfrm>
              <a:off x="58950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81680" y="38368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615280" y="3836880"/>
            <a:ext cx="307080" cy="368280"/>
            <a:chOff x="5615280" y="3836880"/>
            <a:chExt cx="307080" cy="368280"/>
          </a:xfrm>
        </p:grpSpPr>
        <p:sp>
          <p:nvSpPr>
            <p:cNvPr id="237" name=""/>
            <p:cNvSpPr/>
            <p:nvPr/>
          </p:nvSpPr>
          <p:spPr>
            <a:xfrm>
              <a:off x="5628240" y="3924000"/>
              <a:ext cx="25740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15280" y="3836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414840" y="3836880"/>
            <a:ext cx="358920" cy="368280"/>
            <a:chOff x="6414840" y="3836880"/>
            <a:chExt cx="358920" cy="368280"/>
          </a:xfrm>
        </p:grpSpPr>
        <p:sp>
          <p:nvSpPr>
            <p:cNvPr id="240" name=""/>
            <p:cNvSpPr/>
            <p:nvPr/>
          </p:nvSpPr>
          <p:spPr>
            <a:xfrm>
              <a:off x="64281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1484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148440" y="3836880"/>
            <a:ext cx="333000" cy="368280"/>
            <a:chOff x="6148440" y="3836880"/>
            <a:chExt cx="333000" cy="368280"/>
          </a:xfrm>
        </p:grpSpPr>
        <p:sp>
          <p:nvSpPr>
            <p:cNvPr id="243" name=""/>
            <p:cNvSpPr/>
            <p:nvPr/>
          </p:nvSpPr>
          <p:spPr>
            <a:xfrm>
              <a:off x="61614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484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948720" y="3836880"/>
            <a:ext cx="333000" cy="368280"/>
            <a:chOff x="6948720" y="3836880"/>
            <a:chExt cx="333000" cy="368280"/>
          </a:xfrm>
        </p:grpSpPr>
        <p:sp>
          <p:nvSpPr>
            <p:cNvPr id="246" name=""/>
            <p:cNvSpPr/>
            <p:nvPr/>
          </p:nvSpPr>
          <p:spPr>
            <a:xfrm>
              <a:off x="69616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487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681960" y="3836880"/>
            <a:ext cx="345240" cy="368280"/>
            <a:chOff x="6681960" y="3836880"/>
            <a:chExt cx="345240" cy="368280"/>
          </a:xfrm>
        </p:grpSpPr>
        <p:sp>
          <p:nvSpPr>
            <p:cNvPr id="249" name=""/>
            <p:cNvSpPr/>
            <p:nvPr/>
          </p:nvSpPr>
          <p:spPr>
            <a:xfrm>
              <a:off x="669492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819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481880" y="3836880"/>
            <a:ext cx="397080" cy="368280"/>
            <a:chOff x="7481880" y="3836880"/>
            <a:chExt cx="397080" cy="368280"/>
          </a:xfrm>
        </p:grpSpPr>
        <p:sp>
          <p:nvSpPr>
            <p:cNvPr id="252" name=""/>
            <p:cNvSpPr/>
            <p:nvPr/>
          </p:nvSpPr>
          <p:spPr>
            <a:xfrm>
              <a:off x="74952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81880" y="38368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215480" y="3836880"/>
            <a:ext cx="333000" cy="368280"/>
            <a:chOff x="7215480" y="3836880"/>
            <a:chExt cx="333000" cy="368280"/>
          </a:xfrm>
        </p:grpSpPr>
        <p:sp>
          <p:nvSpPr>
            <p:cNvPr id="255" name=""/>
            <p:cNvSpPr/>
            <p:nvPr/>
          </p:nvSpPr>
          <p:spPr>
            <a:xfrm>
              <a:off x="722844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1548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739280" y="3836880"/>
            <a:ext cx="333000" cy="368280"/>
            <a:chOff x="7739280" y="3836880"/>
            <a:chExt cx="333000" cy="368280"/>
          </a:xfrm>
        </p:grpSpPr>
        <p:sp>
          <p:nvSpPr>
            <p:cNvPr id="258" name=""/>
            <p:cNvSpPr/>
            <p:nvPr/>
          </p:nvSpPr>
          <p:spPr>
            <a:xfrm>
              <a:off x="775224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3928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8272440" y="3836880"/>
            <a:ext cx="320760" cy="368280"/>
            <a:chOff x="8272440" y="3836880"/>
            <a:chExt cx="320760" cy="368280"/>
          </a:xfrm>
        </p:grpSpPr>
        <p:sp>
          <p:nvSpPr>
            <p:cNvPr id="261" name=""/>
            <p:cNvSpPr/>
            <p:nvPr/>
          </p:nvSpPr>
          <p:spPr>
            <a:xfrm>
              <a:off x="82857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7244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8006040" y="3836880"/>
            <a:ext cx="333000" cy="368280"/>
            <a:chOff x="8006040" y="3836880"/>
            <a:chExt cx="333000" cy="368280"/>
          </a:xfrm>
        </p:grpSpPr>
        <p:sp>
          <p:nvSpPr>
            <p:cNvPr id="264" name=""/>
            <p:cNvSpPr/>
            <p:nvPr/>
          </p:nvSpPr>
          <p:spPr>
            <a:xfrm>
              <a:off x="80190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060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405160" y="3836880"/>
            <a:ext cx="345240" cy="368280"/>
            <a:chOff x="2405160" y="3836880"/>
            <a:chExt cx="345240" cy="368280"/>
          </a:xfrm>
        </p:grpSpPr>
        <p:sp>
          <p:nvSpPr>
            <p:cNvPr id="267" name=""/>
            <p:cNvSpPr/>
            <p:nvPr/>
          </p:nvSpPr>
          <p:spPr>
            <a:xfrm>
              <a:off x="2417760" y="392436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051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33680" y="3836880"/>
            <a:ext cx="345240" cy="368280"/>
            <a:chOff x="1633680" y="3836880"/>
            <a:chExt cx="345240" cy="368280"/>
          </a:xfrm>
        </p:grpSpPr>
        <p:sp>
          <p:nvSpPr>
            <p:cNvPr id="270" name=""/>
            <p:cNvSpPr/>
            <p:nvPr/>
          </p:nvSpPr>
          <p:spPr>
            <a:xfrm>
              <a:off x="164664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3368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900080" y="3836880"/>
            <a:ext cx="358920" cy="368280"/>
            <a:chOff x="1900080" y="3836880"/>
            <a:chExt cx="358920" cy="368280"/>
          </a:xfrm>
        </p:grpSpPr>
        <p:sp>
          <p:nvSpPr>
            <p:cNvPr id="273" name=""/>
            <p:cNvSpPr/>
            <p:nvPr/>
          </p:nvSpPr>
          <p:spPr>
            <a:xfrm>
              <a:off x="19134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0008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167200" y="3836880"/>
            <a:ext cx="345240" cy="368280"/>
            <a:chOff x="2167200" y="3836880"/>
            <a:chExt cx="345240" cy="368280"/>
          </a:xfrm>
        </p:grpSpPr>
        <p:sp>
          <p:nvSpPr>
            <p:cNvPr id="276" name=""/>
            <p:cNvSpPr/>
            <p:nvPr/>
          </p:nvSpPr>
          <p:spPr>
            <a:xfrm>
              <a:off x="218016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6720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289240" y="502776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a goes to c, b goes to o,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06F6D-7BFF-4DC0-BDDF-3BF786E761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 Starting 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word does not have to start at the beginning of the plaintext alpha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uld start at any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“count” could start at “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74960" y="4362480"/>
            <a:ext cx="8084160" cy="343440"/>
            <a:chOff x="174960" y="4362480"/>
            <a:chExt cx="8084160" cy="343440"/>
          </a:xfrm>
        </p:grpSpPr>
        <p:grpSp>
          <p:nvGrpSpPr>
            <p:cNvPr id="283" name=""/>
            <p:cNvGrpSpPr/>
            <p:nvPr/>
          </p:nvGrpSpPr>
          <p:grpSpPr>
            <a:xfrm>
              <a:off x="1348200" y="4362480"/>
              <a:ext cx="272160" cy="277920"/>
              <a:chOff x="1348200" y="4362480"/>
              <a:chExt cx="272160" cy="277920"/>
            </a:xfrm>
          </p:grpSpPr>
          <p:sp>
            <p:nvSpPr>
              <p:cNvPr id="284" name=""/>
              <p:cNvSpPr/>
              <p:nvPr/>
            </p:nvSpPr>
            <p:spPr>
              <a:xfrm>
                <a:off x="135252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348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614960" y="4362480"/>
              <a:ext cx="272160" cy="277920"/>
              <a:chOff x="1614960" y="4362480"/>
              <a:chExt cx="272160" cy="277920"/>
            </a:xfrm>
          </p:grpSpPr>
          <p:sp>
            <p:nvSpPr>
              <p:cNvPr id="287" name=""/>
              <p:cNvSpPr/>
              <p:nvPr/>
            </p:nvSpPr>
            <p:spPr>
              <a:xfrm>
                <a:off x="16192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614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881360" y="4362480"/>
              <a:ext cx="272160" cy="277920"/>
              <a:chOff x="1881360" y="4362480"/>
              <a:chExt cx="272160" cy="277920"/>
            </a:xfrm>
          </p:grpSpPr>
          <p:sp>
            <p:nvSpPr>
              <p:cNvPr id="290" name=""/>
              <p:cNvSpPr/>
              <p:nvPr/>
            </p:nvSpPr>
            <p:spPr>
              <a:xfrm>
                <a:off x="188568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813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2148120" y="4362480"/>
              <a:ext cx="272160" cy="277920"/>
              <a:chOff x="2148120" y="4362480"/>
              <a:chExt cx="272160" cy="277920"/>
            </a:xfrm>
          </p:grpSpPr>
          <p:sp>
            <p:nvSpPr>
              <p:cNvPr id="293" name=""/>
              <p:cNvSpPr/>
              <p:nvPr/>
            </p:nvSpPr>
            <p:spPr>
              <a:xfrm>
                <a:off x="21524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481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405520" y="4362480"/>
              <a:ext cx="272160" cy="277920"/>
              <a:chOff x="2405520" y="4362480"/>
              <a:chExt cx="272160" cy="277920"/>
            </a:xfrm>
          </p:grpSpPr>
          <p:sp>
            <p:nvSpPr>
              <p:cNvPr id="296" name=""/>
              <p:cNvSpPr/>
              <p:nvPr/>
            </p:nvSpPr>
            <p:spPr>
              <a:xfrm>
                <a:off x="24098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4055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671920" y="4362480"/>
              <a:ext cx="272160" cy="277920"/>
              <a:chOff x="2671920" y="4362480"/>
              <a:chExt cx="272160" cy="277920"/>
            </a:xfrm>
          </p:grpSpPr>
          <p:sp>
            <p:nvSpPr>
              <p:cNvPr id="299" name=""/>
              <p:cNvSpPr/>
              <p:nvPr/>
            </p:nvSpPr>
            <p:spPr>
              <a:xfrm>
                <a:off x="26762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6719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938680" y="4362480"/>
              <a:ext cx="272160" cy="277920"/>
              <a:chOff x="2938680" y="4362480"/>
              <a:chExt cx="272160" cy="277920"/>
            </a:xfrm>
          </p:grpSpPr>
          <p:sp>
            <p:nvSpPr>
              <p:cNvPr id="302" name=""/>
              <p:cNvSpPr/>
              <p:nvPr/>
            </p:nvSpPr>
            <p:spPr>
              <a:xfrm>
                <a:off x="29430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386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05440" y="4362480"/>
              <a:ext cx="272160" cy="277920"/>
              <a:chOff x="3205440" y="4362480"/>
              <a:chExt cx="272160" cy="277920"/>
            </a:xfrm>
          </p:grpSpPr>
          <p:sp>
            <p:nvSpPr>
              <p:cNvPr id="305" name=""/>
              <p:cNvSpPr/>
              <p:nvPr/>
            </p:nvSpPr>
            <p:spPr>
              <a:xfrm>
                <a:off x="32097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054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3472200" y="4362480"/>
              <a:ext cx="272160" cy="277920"/>
              <a:chOff x="3472200" y="4362480"/>
              <a:chExt cx="272160" cy="277920"/>
            </a:xfrm>
          </p:grpSpPr>
          <p:sp>
            <p:nvSpPr>
              <p:cNvPr id="308" name=""/>
              <p:cNvSpPr/>
              <p:nvPr/>
            </p:nvSpPr>
            <p:spPr>
              <a:xfrm>
                <a:off x="34765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72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738960" y="4362480"/>
              <a:ext cx="272160" cy="277920"/>
              <a:chOff x="3738960" y="4362480"/>
              <a:chExt cx="272160" cy="277920"/>
            </a:xfrm>
          </p:grpSpPr>
          <p:sp>
            <p:nvSpPr>
              <p:cNvPr id="311" name=""/>
              <p:cNvSpPr/>
              <p:nvPr/>
            </p:nvSpPr>
            <p:spPr>
              <a:xfrm>
                <a:off x="37432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38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4005720" y="4362480"/>
              <a:ext cx="272160" cy="277920"/>
              <a:chOff x="4005720" y="4362480"/>
              <a:chExt cx="272160" cy="277920"/>
            </a:xfrm>
          </p:grpSpPr>
          <p:sp>
            <p:nvSpPr>
              <p:cNvPr id="314" name=""/>
              <p:cNvSpPr/>
              <p:nvPr/>
            </p:nvSpPr>
            <p:spPr>
              <a:xfrm>
                <a:off x="40100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0057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272120" y="4362480"/>
              <a:ext cx="272160" cy="277920"/>
              <a:chOff x="4272120" y="4362480"/>
              <a:chExt cx="272160" cy="277920"/>
            </a:xfrm>
          </p:grpSpPr>
          <p:sp>
            <p:nvSpPr>
              <p:cNvPr id="317" name=""/>
              <p:cNvSpPr/>
              <p:nvPr/>
            </p:nvSpPr>
            <p:spPr>
              <a:xfrm>
                <a:off x="42764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721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4538880" y="4362480"/>
              <a:ext cx="272160" cy="277920"/>
              <a:chOff x="4538880" y="4362480"/>
              <a:chExt cx="272160" cy="277920"/>
            </a:xfrm>
          </p:grpSpPr>
          <p:sp>
            <p:nvSpPr>
              <p:cNvPr id="320" name=""/>
              <p:cNvSpPr/>
              <p:nvPr/>
            </p:nvSpPr>
            <p:spPr>
              <a:xfrm>
                <a:off x="45432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388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805640" y="4362480"/>
              <a:ext cx="272160" cy="277920"/>
              <a:chOff x="4805640" y="4362480"/>
              <a:chExt cx="272160" cy="277920"/>
            </a:xfrm>
          </p:grpSpPr>
          <p:sp>
            <p:nvSpPr>
              <p:cNvPr id="323" name=""/>
              <p:cNvSpPr/>
              <p:nvPr/>
            </p:nvSpPr>
            <p:spPr>
              <a:xfrm>
                <a:off x="48099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056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5072400" y="4362480"/>
              <a:ext cx="272160" cy="277920"/>
              <a:chOff x="5072400" y="4362480"/>
              <a:chExt cx="272160" cy="277920"/>
            </a:xfrm>
          </p:grpSpPr>
          <p:sp>
            <p:nvSpPr>
              <p:cNvPr id="326" name=""/>
              <p:cNvSpPr/>
              <p:nvPr/>
            </p:nvSpPr>
            <p:spPr>
              <a:xfrm>
                <a:off x="50767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0724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5339160" y="4362480"/>
              <a:ext cx="272160" cy="277920"/>
              <a:chOff x="5339160" y="4362480"/>
              <a:chExt cx="272160" cy="277920"/>
            </a:xfrm>
          </p:grpSpPr>
          <p:sp>
            <p:nvSpPr>
              <p:cNvPr id="329" name=""/>
              <p:cNvSpPr/>
              <p:nvPr/>
            </p:nvSpPr>
            <p:spPr>
              <a:xfrm>
                <a:off x="53434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3391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605920" y="4362480"/>
              <a:ext cx="272160" cy="277920"/>
              <a:chOff x="5605920" y="4362480"/>
              <a:chExt cx="272160" cy="277920"/>
            </a:xfrm>
          </p:grpSpPr>
          <p:sp>
            <p:nvSpPr>
              <p:cNvPr id="332" name=""/>
              <p:cNvSpPr/>
              <p:nvPr/>
            </p:nvSpPr>
            <p:spPr>
              <a:xfrm>
                <a:off x="56102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059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5872320" y="4362480"/>
              <a:ext cx="272160" cy="277920"/>
              <a:chOff x="5872320" y="4362480"/>
              <a:chExt cx="272160" cy="277920"/>
            </a:xfrm>
          </p:grpSpPr>
          <p:sp>
            <p:nvSpPr>
              <p:cNvPr id="335" name=""/>
              <p:cNvSpPr/>
              <p:nvPr/>
            </p:nvSpPr>
            <p:spPr>
              <a:xfrm>
                <a:off x="58766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8723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129720" y="4362480"/>
              <a:ext cx="272160" cy="277920"/>
              <a:chOff x="6129720" y="4362480"/>
              <a:chExt cx="272160" cy="277920"/>
            </a:xfrm>
          </p:grpSpPr>
          <p:sp>
            <p:nvSpPr>
              <p:cNvPr id="338" name=""/>
              <p:cNvSpPr/>
              <p:nvPr/>
            </p:nvSpPr>
            <p:spPr>
              <a:xfrm>
                <a:off x="61340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1297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6396480" y="4362480"/>
              <a:ext cx="272160" cy="277920"/>
              <a:chOff x="6396480" y="4362480"/>
              <a:chExt cx="272160" cy="277920"/>
            </a:xfrm>
          </p:grpSpPr>
          <p:sp>
            <p:nvSpPr>
              <p:cNvPr id="341" name=""/>
              <p:cNvSpPr/>
              <p:nvPr/>
            </p:nvSpPr>
            <p:spPr>
              <a:xfrm>
                <a:off x="640080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964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662880" y="4362480"/>
              <a:ext cx="272160" cy="277920"/>
              <a:chOff x="6662880" y="4362480"/>
              <a:chExt cx="272160" cy="277920"/>
            </a:xfrm>
          </p:grpSpPr>
          <p:sp>
            <p:nvSpPr>
              <p:cNvPr id="344" name=""/>
              <p:cNvSpPr/>
              <p:nvPr/>
            </p:nvSpPr>
            <p:spPr>
              <a:xfrm>
                <a:off x="66672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628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6929640" y="4362480"/>
              <a:ext cx="272160" cy="277920"/>
              <a:chOff x="6929640" y="4362480"/>
              <a:chExt cx="272160" cy="277920"/>
            </a:xfrm>
          </p:grpSpPr>
          <p:sp>
            <p:nvSpPr>
              <p:cNvPr id="347" name=""/>
              <p:cNvSpPr/>
              <p:nvPr/>
            </p:nvSpPr>
            <p:spPr>
              <a:xfrm>
                <a:off x="69339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296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7196400" y="4362480"/>
              <a:ext cx="272160" cy="277920"/>
              <a:chOff x="7196400" y="4362480"/>
              <a:chExt cx="272160" cy="277920"/>
            </a:xfrm>
          </p:grpSpPr>
          <p:sp>
            <p:nvSpPr>
              <p:cNvPr id="350" name=""/>
              <p:cNvSpPr/>
              <p:nvPr/>
            </p:nvSpPr>
            <p:spPr>
              <a:xfrm>
                <a:off x="72007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1964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7453440" y="4362480"/>
              <a:ext cx="272160" cy="277920"/>
              <a:chOff x="7453440" y="4362480"/>
              <a:chExt cx="272160" cy="277920"/>
            </a:xfrm>
          </p:grpSpPr>
          <p:sp>
            <p:nvSpPr>
              <p:cNvPr id="353" name=""/>
              <p:cNvSpPr/>
              <p:nvPr/>
            </p:nvSpPr>
            <p:spPr>
              <a:xfrm>
                <a:off x="74577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4534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7720200" y="4362480"/>
              <a:ext cx="272160" cy="277920"/>
              <a:chOff x="7720200" y="4362480"/>
              <a:chExt cx="272160" cy="277920"/>
            </a:xfrm>
          </p:grpSpPr>
          <p:sp>
            <p:nvSpPr>
              <p:cNvPr id="356" name=""/>
              <p:cNvSpPr/>
              <p:nvPr/>
            </p:nvSpPr>
            <p:spPr>
              <a:xfrm>
                <a:off x="77245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720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986960" y="4362480"/>
              <a:ext cx="272160" cy="277920"/>
              <a:chOff x="7986960" y="4362480"/>
              <a:chExt cx="272160" cy="277920"/>
            </a:xfrm>
          </p:grpSpPr>
          <p:sp>
            <p:nvSpPr>
              <p:cNvPr id="359" name=""/>
              <p:cNvSpPr/>
              <p:nvPr/>
            </p:nvSpPr>
            <p:spPr>
              <a:xfrm>
                <a:off x="799128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986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74960" y="436860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agik"/>
                </a:rPr>
                <a:t>plain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45360" y="45975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gik"/>
              </a:rPr>
              <a:t>cipher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034240" y="4638600"/>
            <a:ext cx="289800" cy="277920"/>
            <a:chOff x="5034240" y="4638600"/>
            <a:chExt cx="289800" cy="277920"/>
          </a:xfrm>
        </p:grpSpPr>
        <p:sp>
          <p:nvSpPr>
            <p:cNvPr id="364" name=""/>
            <p:cNvSpPr/>
            <p:nvPr/>
          </p:nvSpPr>
          <p:spPr>
            <a:xfrm>
              <a:off x="5047920" y="4638600"/>
              <a:ext cx="27612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34240" y="46400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320080" y="4638600"/>
            <a:ext cx="2939040" cy="277920"/>
            <a:chOff x="5320080" y="4638600"/>
            <a:chExt cx="2939040" cy="277920"/>
          </a:xfrm>
        </p:grpSpPr>
        <p:grpSp>
          <p:nvGrpSpPr>
            <p:cNvPr id="367" name=""/>
            <p:cNvGrpSpPr/>
            <p:nvPr/>
          </p:nvGrpSpPr>
          <p:grpSpPr>
            <a:xfrm>
              <a:off x="5320080" y="4638600"/>
              <a:ext cx="272160" cy="277920"/>
              <a:chOff x="5320080" y="4638600"/>
              <a:chExt cx="272160" cy="277920"/>
            </a:xfrm>
          </p:grpSpPr>
          <p:sp>
            <p:nvSpPr>
              <p:cNvPr id="368" name=""/>
              <p:cNvSpPr/>
              <p:nvPr/>
            </p:nvSpPr>
            <p:spPr>
              <a:xfrm>
                <a:off x="5332680" y="4638600"/>
                <a:ext cx="25884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2008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5586840" y="4638600"/>
              <a:ext cx="272160" cy="277920"/>
              <a:chOff x="5586840" y="4638600"/>
              <a:chExt cx="272160" cy="277920"/>
            </a:xfrm>
          </p:grpSpPr>
          <p:sp>
            <p:nvSpPr>
              <p:cNvPr id="371" name=""/>
              <p:cNvSpPr/>
              <p:nvPr/>
            </p:nvSpPr>
            <p:spPr>
              <a:xfrm>
                <a:off x="5599440" y="4638600"/>
                <a:ext cx="25848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58684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5853240" y="4638600"/>
              <a:ext cx="272160" cy="277920"/>
              <a:chOff x="5853240" y="4638600"/>
              <a:chExt cx="272160" cy="277920"/>
            </a:xfrm>
          </p:grpSpPr>
          <p:sp>
            <p:nvSpPr>
              <p:cNvPr id="374" name=""/>
              <p:cNvSpPr/>
              <p:nvPr/>
            </p:nvSpPr>
            <p:spPr>
              <a:xfrm>
                <a:off x="5865480" y="4638600"/>
                <a:ext cx="25884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85324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120000" y="4638600"/>
              <a:ext cx="272160" cy="277560"/>
              <a:chOff x="6120000" y="4638600"/>
              <a:chExt cx="272160" cy="277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1329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1200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6653520" y="4638600"/>
              <a:ext cx="272160" cy="277560"/>
              <a:chOff x="6653520" y="4638600"/>
              <a:chExt cx="272160" cy="277560"/>
            </a:xfrm>
          </p:grpSpPr>
          <p:sp>
            <p:nvSpPr>
              <p:cNvPr id="380" name=""/>
              <p:cNvSpPr/>
              <p:nvPr/>
            </p:nvSpPr>
            <p:spPr>
              <a:xfrm>
                <a:off x="666648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6535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386760" y="4638600"/>
              <a:ext cx="272160" cy="277560"/>
              <a:chOff x="6386760" y="4638600"/>
              <a:chExt cx="272160" cy="277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3997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867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187040" y="4638600"/>
              <a:ext cx="272160" cy="277560"/>
              <a:chOff x="7187040" y="4638600"/>
              <a:chExt cx="272160" cy="277560"/>
            </a:xfrm>
          </p:grpSpPr>
          <p:sp>
            <p:nvSpPr>
              <p:cNvPr id="386" name=""/>
              <p:cNvSpPr/>
              <p:nvPr/>
            </p:nvSpPr>
            <p:spPr>
              <a:xfrm>
                <a:off x="72000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1870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920280" y="4638600"/>
              <a:ext cx="272160" cy="277560"/>
              <a:chOff x="6920280" y="4638600"/>
              <a:chExt cx="272160" cy="277560"/>
            </a:xfrm>
          </p:grpSpPr>
          <p:sp>
            <p:nvSpPr>
              <p:cNvPr id="389" name=""/>
              <p:cNvSpPr/>
              <p:nvPr/>
            </p:nvSpPr>
            <p:spPr>
              <a:xfrm>
                <a:off x="693324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2028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720200" y="4638600"/>
              <a:ext cx="272160" cy="277560"/>
              <a:chOff x="7720200" y="4638600"/>
              <a:chExt cx="272160" cy="277560"/>
            </a:xfrm>
          </p:grpSpPr>
          <p:sp>
            <p:nvSpPr>
              <p:cNvPr id="392" name=""/>
              <p:cNvSpPr/>
              <p:nvPr/>
            </p:nvSpPr>
            <p:spPr>
              <a:xfrm>
                <a:off x="77331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7202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453800" y="4638600"/>
              <a:ext cx="272160" cy="277560"/>
              <a:chOff x="7453800" y="4638600"/>
              <a:chExt cx="272160" cy="277560"/>
            </a:xfrm>
          </p:grpSpPr>
          <p:sp>
            <p:nvSpPr>
              <p:cNvPr id="395" name=""/>
              <p:cNvSpPr/>
              <p:nvPr/>
            </p:nvSpPr>
            <p:spPr>
              <a:xfrm>
                <a:off x="746640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4538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986960" y="4638600"/>
              <a:ext cx="272160" cy="277560"/>
              <a:chOff x="7986960" y="4638600"/>
              <a:chExt cx="272160" cy="277560"/>
            </a:xfrm>
          </p:grpSpPr>
          <p:sp>
            <p:nvSpPr>
              <p:cNvPr id="398" name=""/>
              <p:cNvSpPr/>
              <p:nvPr/>
            </p:nvSpPr>
            <p:spPr>
              <a:xfrm>
                <a:off x="79999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9869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1347840" y="4638600"/>
            <a:ext cx="2662920" cy="277560"/>
            <a:chOff x="1347840" y="4638600"/>
            <a:chExt cx="2662920" cy="277560"/>
          </a:xfrm>
        </p:grpSpPr>
        <p:grpSp>
          <p:nvGrpSpPr>
            <p:cNvPr id="401" name=""/>
            <p:cNvGrpSpPr/>
            <p:nvPr/>
          </p:nvGrpSpPr>
          <p:grpSpPr>
            <a:xfrm>
              <a:off x="1347840" y="4638600"/>
              <a:ext cx="272160" cy="277560"/>
              <a:chOff x="1347840" y="4638600"/>
              <a:chExt cx="272160" cy="277560"/>
            </a:xfrm>
          </p:grpSpPr>
          <p:sp>
            <p:nvSpPr>
              <p:cNvPr id="402" name=""/>
              <p:cNvSpPr/>
              <p:nvPr/>
            </p:nvSpPr>
            <p:spPr>
              <a:xfrm>
                <a:off x="13608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3478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1881360" y="4638600"/>
              <a:ext cx="272160" cy="277560"/>
              <a:chOff x="1881360" y="4638600"/>
              <a:chExt cx="272160" cy="277560"/>
            </a:xfrm>
          </p:grpSpPr>
          <p:sp>
            <p:nvSpPr>
              <p:cNvPr id="405" name=""/>
              <p:cNvSpPr/>
              <p:nvPr/>
            </p:nvSpPr>
            <p:spPr>
              <a:xfrm>
                <a:off x="18943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813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1614600" y="4638600"/>
              <a:ext cx="272160" cy="277560"/>
              <a:chOff x="1614600" y="4638600"/>
              <a:chExt cx="272160" cy="277560"/>
            </a:xfrm>
          </p:grpSpPr>
          <p:sp>
            <p:nvSpPr>
              <p:cNvPr id="408" name=""/>
              <p:cNvSpPr/>
              <p:nvPr/>
            </p:nvSpPr>
            <p:spPr>
              <a:xfrm>
                <a:off x="16275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146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2414520" y="4638600"/>
              <a:ext cx="272160" cy="277560"/>
              <a:chOff x="2414520" y="4638600"/>
              <a:chExt cx="272160" cy="277560"/>
            </a:xfrm>
          </p:grpSpPr>
          <p:sp>
            <p:nvSpPr>
              <p:cNvPr id="411" name=""/>
              <p:cNvSpPr/>
              <p:nvPr/>
            </p:nvSpPr>
            <p:spPr>
              <a:xfrm>
                <a:off x="242748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4145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48120" y="4638600"/>
              <a:ext cx="272160" cy="277560"/>
              <a:chOff x="2148120" y="4638600"/>
              <a:chExt cx="272160" cy="277560"/>
            </a:xfrm>
          </p:grpSpPr>
          <p:sp>
            <p:nvSpPr>
              <p:cNvPr id="414" name=""/>
              <p:cNvSpPr/>
              <p:nvPr/>
            </p:nvSpPr>
            <p:spPr>
              <a:xfrm>
                <a:off x="216072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481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2948040" y="4638600"/>
              <a:ext cx="272160" cy="277560"/>
              <a:chOff x="2948040" y="4638600"/>
              <a:chExt cx="272160" cy="277560"/>
            </a:xfrm>
          </p:grpSpPr>
          <p:sp>
            <p:nvSpPr>
              <p:cNvPr id="417" name=""/>
              <p:cNvSpPr/>
              <p:nvPr/>
            </p:nvSpPr>
            <p:spPr>
              <a:xfrm>
                <a:off x="29610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9480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2681280" y="4638600"/>
              <a:ext cx="272160" cy="277560"/>
              <a:chOff x="2681280" y="4638600"/>
              <a:chExt cx="272160" cy="277560"/>
            </a:xfrm>
          </p:grpSpPr>
          <p:sp>
            <p:nvSpPr>
              <p:cNvPr id="420" name=""/>
              <p:cNvSpPr/>
              <p:nvPr/>
            </p:nvSpPr>
            <p:spPr>
              <a:xfrm>
                <a:off x="269424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68128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3205440" y="4638600"/>
              <a:ext cx="272160" cy="277560"/>
              <a:chOff x="3205440" y="4638600"/>
              <a:chExt cx="272160" cy="277560"/>
            </a:xfrm>
          </p:grpSpPr>
          <p:sp>
            <p:nvSpPr>
              <p:cNvPr id="423" name=""/>
              <p:cNvSpPr/>
              <p:nvPr/>
            </p:nvSpPr>
            <p:spPr>
              <a:xfrm>
                <a:off x="321804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2054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3738600" y="4638600"/>
              <a:ext cx="272160" cy="277560"/>
              <a:chOff x="3738600" y="4638600"/>
              <a:chExt cx="272160" cy="277560"/>
            </a:xfrm>
          </p:grpSpPr>
          <p:sp>
            <p:nvSpPr>
              <p:cNvPr id="426" name=""/>
              <p:cNvSpPr/>
              <p:nvPr/>
            </p:nvSpPr>
            <p:spPr>
              <a:xfrm>
                <a:off x="37515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386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3471840" y="4638600"/>
              <a:ext cx="272160" cy="277560"/>
              <a:chOff x="3471840" y="4638600"/>
              <a:chExt cx="272160" cy="277560"/>
            </a:xfrm>
          </p:grpSpPr>
          <p:sp>
            <p:nvSpPr>
              <p:cNvPr id="429" name=""/>
              <p:cNvSpPr/>
              <p:nvPr/>
            </p:nvSpPr>
            <p:spPr>
              <a:xfrm>
                <a:off x="34848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4718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4776840" y="4638600"/>
            <a:ext cx="272160" cy="277920"/>
            <a:chOff x="4776840" y="4638600"/>
            <a:chExt cx="272160" cy="277920"/>
          </a:xfrm>
        </p:grpSpPr>
        <p:sp>
          <p:nvSpPr>
            <p:cNvPr id="432" name=""/>
            <p:cNvSpPr/>
            <p:nvPr/>
          </p:nvSpPr>
          <p:spPr>
            <a:xfrm>
              <a:off x="4789440" y="463860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76840" y="46400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005720" y="4638600"/>
            <a:ext cx="272160" cy="277560"/>
            <a:chOff x="4005720" y="4638600"/>
            <a:chExt cx="272160" cy="277560"/>
          </a:xfrm>
        </p:grpSpPr>
        <p:sp>
          <p:nvSpPr>
            <p:cNvPr id="435" name=""/>
            <p:cNvSpPr/>
            <p:nvPr/>
          </p:nvSpPr>
          <p:spPr>
            <a:xfrm>
              <a:off x="4018320" y="4638600"/>
              <a:ext cx="25848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0572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272120" y="4638600"/>
            <a:ext cx="272160" cy="277560"/>
            <a:chOff x="4272120" y="4638600"/>
            <a:chExt cx="272160" cy="277560"/>
          </a:xfrm>
        </p:grpSpPr>
        <p:sp>
          <p:nvSpPr>
            <p:cNvPr id="438" name=""/>
            <p:cNvSpPr/>
            <p:nvPr/>
          </p:nvSpPr>
          <p:spPr>
            <a:xfrm>
              <a:off x="4285080" y="4638600"/>
              <a:ext cx="25812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7212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538880" y="4638600"/>
            <a:ext cx="272160" cy="277560"/>
            <a:chOff x="4538880" y="4638600"/>
            <a:chExt cx="272160" cy="277560"/>
          </a:xfrm>
        </p:grpSpPr>
        <p:sp>
          <p:nvSpPr>
            <p:cNvPr id="441" name=""/>
            <p:cNvSpPr/>
            <p:nvPr/>
          </p:nvSpPr>
          <p:spPr>
            <a:xfrm>
              <a:off x="4551840" y="4638600"/>
              <a:ext cx="25812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3888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3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90A66-1CC7-4233-9256-86EA96808E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keyword is “visit” (note, the second “i” in visit is dropped below) starting at “a” and the plaintext is “next”, the application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49360" y="4643280"/>
            <a:ext cx="7881120" cy="337320"/>
            <a:chOff x="549360" y="4643280"/>
            <a:chExt cx="7881120" cy="337320"/>
          </a:xfrm>
        </p:grpSpPr>
        <p:grpSp>
          <p:nvGrpSpPr>
            <p:cNvPr id="447" name=""/>
            <p:cNvGrpSpPr/>
            <p:nvPr/>
          </p:nvGrpSpPr>
          <p:grpSpPr>
            <a:xfrm>
              <a:off x="1519560" y="4647960"/>
              <a:ext cx="272160" cy="278280"/>
              <a:chOff x="1519560" y="4647960"/>
              <a:chExt cx="272160" cy="278280"/>
            </a:xfrm>
          </p:grpSpPr>
          <p:sp>
            <p:nvSpPr>
              <p:cNvPr id="448" name=""/>
              <p:cNvSpPr/>
              <p:nvPr/>
            </p:nvSpPr>
            <p:spPr>
              <a:xfrm>
                <a:off x="152388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519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1786320" y="4647960"/>
              <a:ext cx="272160" cy="278280"/>
              <a:chOff x="1786320" y="4647960"/>
              <a:chExt cx="272160" cy="278280"/>
            </a:xfrm>
          </p:grpSpPr>
          <p:sp>
            <p:nvSpPr>
              <p:cNvPr id="451" name=""/>
              <p:cNvSpPr/>
              <p:nvPr/>
            </p:nvSpPr>
            <p:spPr>
              <a:xfrm>
                <a:off x="17906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86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052720" y="4647960"/>
              <a:ext cx="272160" cy="278280"/>
              <a:chOff x="2052720" y="4647960"/>
              <a:chExt cx="272160" cy="278280"/>
            </a:xfrm>
          </p:grpSpPr>
          <p:sp>
            <p:nvSpPr>
              <p:cNvPr id="454" name=""/>
              <p:cNvSpPr/>
              <p:nvPr/>
            </p:nvSpPr>
            <p:spPr>
              <a:xfrm>
                <a:off x="205704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0527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2319480" y="4647960"/>
              <a:ext cx="272160" cy="278280"/>
              <a:chOff x="2319480" y="4647960"/>
              <a:chExt cx="272160" cy="2782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238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194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2576880" y="4647960"/>
              <a:ext cx="272160" cy="278280"/>
              <a:chOff x="2576880" y="4647960"/>
              <a:chExt cx="272160" cy="278280"/>
            </a:xfrm>
          </p:grpSpPr>
          <p:sp>
            <p:nvSpPr>
              <p:cNvPr id="460" name=""/>
              <p:cNvSpPr/>
              <p:nvPr/>
            </p:nvSpPr>
            <p:spPr>
              <a:xfrm>
                <a:off x="25812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5768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843280" y="4647960"/>
              <a:ext cx="272160" cy="278280"/>
              <a:chOff x="2843280" y="4647960"/>
              <a:chExt cx="272160" cy="278280"/>
            </a:xfrm>
          </p:grpSpPr>
          <p:sp>
            <p:nvSpPr>
              <p:cNvPr id="463" name=""/>
              <p:cNvSpPr/>
              <p:nvPr/>
            </p:nvSpPr>
            <p:spPr>
              <a:xfrm>
                <a:off x="28476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8432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3110040" y="4647960"/>
              <a:ext cx="272160" cy="278280"/>
              <a:chOff x="3110040" y="4647960"/>
              <a:chExt cx="272160" cy="278280"/>
            </a:xfrm>
          </p:grpSpPr>
          <p:sp>
            <p:nvSpPr>
              <p:cNvPr id="466" name=""/>
              <p:cNvSpPr/>
              <p:nvPr/>
            </p:nvSpPr>
            <p:spPr>
              <a:xfrm>
                <a:off x="31143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100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3376800" y="4647960"/>
              <a:ext cx="272160" cy="278280"/>
              <a:chOff x="3376800" y="4647960"/>
              <a:chExt cx="272160" cy="278280"/>
            </a:xfrm>
          </p:grpSpPr>
          <p:sp>
            <p:nvSpPr>
              <p:cNvPr id="469" name=""/>
              <p:cNvSpPr/>
              <p:nvPr/>
            </p:nvSpPr>
            <p:spPr>
              <a:xfrm>
                <a:off x="33811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3768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3643560" y="4647960"/>
              <a:ext cx="272160" cy="278280"/>
              <a:chOff x="3643560" y="4647960"/>
              <a:chExt cx="272160" cy="278280"/>
            </a:xfrm>
          </p:grpSpPr>
          <p:sp>
            <p:nvSpPr>
              <p:cNvPr id="472" name=""/>
              <p:cNvSpPr/>
              <p:nvPr/>
            </p:nvSpPr>
            <p:spPr>
              <a:xfrm>
                <a:off x="36478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43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3910320" y="4647960"/>
              <a:ext cx="272160" cy="278280"/>
              <a:chOff x="3910320" y="4647960"/>
              <a:chExt cx="272160" cy="278280"/>
            </a:xfrm>
          </p:grpSpPr>
          <p:sp>
            <p:nvSpPr>
              <p:cNvPr id="475" name=""/>
              <p:cNvSpPr/>
              <p:nvPr/>
            </p:nvSpPr>
            <p:spPr>
              <a:xfrm>
                <a:off x="39146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910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4177080" y="4647960"/>
              <a:ext cx="272160" cy="278280"/>
              <a:chOff x="4177080" y="4647960"/>
              <a:chExt cx="272160" cy="278280"/>
            </a:xfrm>
          </p:grpSpPr>
          <p:sp>
            <p:nvSpPr>
              <p:cNvPr id="478" name=""/>
              <p:cNvSpPr/>
              <p:nvPr/>
            </p:nvSpPr>
            <p:spPr>
              <a:xfrm>
                <a:off x="41814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1770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4443480" y="4647960"/>
              <a:ext cx="272160" cy="278280"/>
              <a:chOff x="4443480" y="4647960"/>
              <a:chExt cx="272160" cy="278280"/>
            </a:xfrm>
          </p:grpSpPr>
          <p:sp>
            <p:nvSpPr>
              <p:cNvPr id="481" name=""/>
              <p:cNvSpPr/>
              <p:nvPr/>
            </p:nvSpPr>
            <p:spPr>
              <a:xfrm>
                <a:off x="44478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4434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4710240" y="4647960"/>
              <a:ext cx="272160" cy="278280"/>
              <a:chOff x="4710240" y="4647960"/>
              <a:chExt cx="272160" cy="278280"/>
            </a:xfrm>
          </p:grpSpPr>
          <p:sp>
            <p:nvSpPr>
              <p:cNvPr id="484" name=""/>
              <p:cNvSpPr/>
              <p:nvPr/>
            </p:nvSpPr>
            <p:spPr>
              <a:xfrm>
                <a:off x="47145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102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4977000" y="4647960"/>
              <a:ext cx="272160" cy="278280"/>
              <a:chOff x="4977000" y="4647960"/>
              <a:chExt cx="272160" cy="278280"/>
            </a:xfrm>
          </p:grpSpPr>
          <p:sp>
            <p:nvSpPr>
              <p:cNvPr id="487" name=""/>
              <p:cNvSpPr/>
              <p:nvPr/>
            </p:nvSpPr>
            <p:spPr>
              <a:xfrm>
                <a:off x="49813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9770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243760" y="4647960"/>
              <a:ext cx="272160" cy="278280"/>
              <a:chOff x="5243760" y="4647960"/>
              <a:chExt cx="272160" cy="278280"/>
            </a:xfrm>
          </p:grpSpPr>
          <p:sp>
            <p:nvSpPr>
              <p:cNvPr id="490" name=""/>
              <p:cNvSpPr/>
              <p:nvPr/>
            </p:nvSpPr>
            <p:spPr>
              <a:xfrm>
                <a:off x="52480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2437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510520" y="4647960"/>
              <a:ext cx="272160" cy="278280"/>
              <a:chOff x="5510520" y="4647960"/>
              <a:chExt cx="272160" cy="278280"/>
            </a:xfrm>
          </p:grpSpPr>
          <p:sp>
            <p:nvSpPr>
              <p:cNvPr id="493" name=""/>
              <p:cNvSpPr/>
              <p:nvPr/>
            </p:nvSpPr>
            <p:spPr>
              <a:xfrm>
                <a:off x="55148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5105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5777280" y="4647960"/>
              <a:ext cx="272160" cy="278280"/>
              <a:chOff x="5777280" y="4647960"/>
              <a:chExt cx="272160" cy="278280"/>
            </a:xfrm>
          </p:grpSpPr>
          <p:sp>
            <p:nvSpPr>
              <p:cNvPr id="496" name=""/>
              <p:cNvSpPr/>
              <p:nvPr/>
            </p:nvSpPr>
            <p:spPr>
              <a:xfrm>
                <a:off x="57816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7772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6043680" y="4647960"/>
              <a:ext cx="272160" cy="278280"/>
              <a:chOff x="6043680" y="4647960"/>
              <a:chExt cx="272160" cy="278280"/>
            </a:xfrm>
          </p:grpSpPr>
          <p:sp>
            <p:nvSpPr>
              <p:cNvPr id="499" name=""/>
              <p:cNvSpPr/>
              <p:nvPr/>
            </p:nvSpPr>
            <p:spPr>
              <a:xfrm>
                <a:off x="60480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436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6301080" y="4647960"/>
              <a:ext cx="272160" cy="278280"/>
              <a:chOff x="6301080" y="4647960"/>
              <a:chExt cx="272160" cy="278280"/>
            </a:xfrm>
          </p:grpSpPr>
          <p:sp>
            <p:nvSpPr>
              <p:cNvPr id="502" name=""/>
              <p:cNvSpPr/>
              <p:nvPr/>
            </p:nvSpPr>
            <p:spPr>
              <a:xfrm>
                <a:off x="63054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3010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567840" y="4647960"/>
              <a:ext cx="272160" cy="278280"/>
              <a:chOff x="6567840" y="4647960"/>
              <a:chExt cx="272160" cy="278280"/>
            </a:xfrm>
          </p:grpSpPr>
          <p:sp>
            <p:nvSpPr>
              <p:cNvPr id="505" name=""/>
              <p:cNvSpPr/>
              <p:nvPr/>
            </p:nvSpPr>
            <p:spPr>
              <a:xfrm>
                <a:off x="657216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678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6834240" y="4647960"/>
              <a:ext cx="272160" cy="278280"/>
              <a:chOff x="6834240" y="4647960"/>
              <a:chExt cx="272160" cy="278280"/>
            </a:xfrm>
          </p:grpSpPr>
          <p:sp>
            <p:nvSpPr>
              <p:cNvPr id="508" name=""/>
              <p:cNvSpPr/>
              <p:nvPr/>
            </p:nvSpPr>
            <p:spPr>
              <a:xfrm>
                <a:off x="68385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342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7101000" y="4647960"/>
              <a:ext cx="272160" cy="278280"/>
              <a:chOff x="7101000" y="4647960"/>
              <a:chExt cx="272160" cy="278280"/>
            </a:xfrm>
          </p:grpSpPr>
          <p:sp>
            <p:nvSpPr>
              <p:cNvPr id="511" name=""/>
              <p:cNvSpPr/>
              <p:nvPr/>
            </p:nvSpPr>
            <p:spPr>
              <a:xfrm>
                <a:off x="71053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1010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7367760" y="4647960"/>
              <a:ext cx="272160" cy="278280"/>
              <a:chOff x="7367760" y="4647960"/>
              <a:chExt cx="272160" cy="278280"/>
            </a:xfrm>
          </p:grpSpPr>
          <p:sp>
            <p:nvSpPr>
              <p:cNvPr id="514" name=""/>
              <p:cNvSpPr/>
              <p:nvPr/>
            </p:nvSpPr>
            <p:spPr>
              <a:xfrm>
                <a:off x="73720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677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7624800" y="4647960"/>
              <a:ext cx="272160" cy="278280"/>
              <a:chOff x="7624800" y="4647960"/>
              <a:chExt cx="272160" cy="278280"/>
            </a:xfrm>
          </p:grpSpPr>
          <p:sp>
            <p:nvSpPr>
              <p:cNvPr id="517" name=""/>
              <p:cNvSpPr/>
              <p:nvPr/>
            </p:nvSpPr>
            <p:spPr>
              <a:xfrm>
                <a:off x="76291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248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7891560" y="4647960"/>
              <a:ext cx="272160" cy="278280"/>
              <a:chOff x="7891560" y="4647960"/>
              <a:chExt cx="272160" cy="278280"/>
            </a:xfrm>
          </p:grpSpPr>
          <p:sp>
            <p:nvSpPr>
              <p:cNvPr id="520" name=""/>
              <p:cNvSpPr/>
              <p:nvPr/>
            </p:nvSpPr>
            <p:spPr>
              <a:xfrm>
                <a:off x="78958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891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8158320" y="4647960"/>
              <a:ext cx="272160" cy="278280"/>
              <a:chOff x="8158320" y="4647960"/>
              <a:chExt cx="272160" cy="278280"/>
            </a:xfrm>
          </p:grpSpPr>
          <p:sp>
            <p:nvSpPr>
              <p:cNvPr id="523" name=""/>
              <p:cNvSpPr/>
              <p:nvPr/>
            </p:nvSpPr>
            <p:spPr>
              <a:xfrm>
                <a:off x="816264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158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549360" y="464328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lain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45320" y="4871880"/>
            <a:ext cx="7984800" cy="337320"/>
            <a:chOff x="445320" y="4871880"/>
            <a:chExt cx="7984800" cy="337320"/>
          </a:xfrm>
        </p:grpSpPr>
        <p:sp>
          <p:nvSpPr>
            <p:cNvPr id="527" name=""/>
            <p:cNvSpPr/>
            <p:nvPr/>
          </p:nvSpPr>
          <p:spPr>
            <a:xfrm>
              <a:off x="445320" y="4871880"/>
              <a:ext cx="105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pher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1519200" y="4924440"/>
              <a:ext cx="6910920" cy="277920"/>
              <a:chOff x="1519200" y="4924440"/>
              <a:chExt cx="6910920" cy="27792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5205600" y="4924440"/>
                <a:ext cx="289800" cy="277920"/>
                <a:chOff x="5205600" y="4924440"/>
                <a:chExt cx="289800" cy="2779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219280" y="4924440"/>
                  <a:ext cx="276120" cy="257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205600" y="49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5491080" y="4924440"/>
                <a:ext cx="2939040" cy="277920"/>
                <a:chOff x="5491080" y="4924440"/>
                <a:chExt cx="2939040" cy="277920"/>
              </a:xfrm>
            </p:grpSpPr>
            <p:grpSp>
              <p:nvGrpSpPr>
                <p:cNvPr id="533" name=""/>
                <p:cNvGrpSpPr/>
                <p:nvPr/>
              </p:nvGrpSpPr>
              <p:grpSpPr>
                <a:xfrm>
                  <a:off x="5491080" y="4924440"/>
                  <a:ext cx="272160" cy="277920"/>
                  <a:chOff x="5491080" y="4924440"/>
                  <a:chExt cx="272160" cy="27792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5503680" y="4924440"/>
                    <a:ext cx="25884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549108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5757840" y="4924440"/>
                  <a:ext cx="272160" cy="277920"/>
                  <a:chOff x="5757840" y="4924440"/>
                  <a:chExt cx="272160" cy="27792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5770440" y="4924440"/>
                    <a:ext cx="25848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575784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6024240" y="4924440"/>
                  <a:ext cx="272160" cy="277920"/>
                  <a:chOff x="6024240" y="4924440"/>
                  <a:chExt cx="272160" cy="27792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6036480" y="4924440"/>
                    <a:ext cx="25884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602424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6291000" y="4924440"/>
                  <a:ext cx="272160" cy="277560"/>
                  <a:chOff x="6291000" y="4924440"/>
                  <a:chExt cx="272160" cy="27756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>
                    <a:off x="63039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910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6824520" y="4924440"/>
                  <a:ext cx="272160" cy="277560"/>
                  <a:chOff x="6824520" y="4924440"/>
                  <a:chExt cx="272160" cy="27756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>
                    <a:off x="683748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82452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6557760" y="4924440"/>
                  <a:ext cx="272160" cy="277560"/>
                  <a:chOff x="6557760" y="4924440"/>
                  <a:chExt cx="272160" cy="27756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65707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65577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Q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7358040" y="4924440"/>
                  <a:ext cx="272160" cy="277560"/>
                  <a:chOff x="7358040" y="4924440"/>
                  <a:chExt cx="272160" cy="27756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737100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735804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W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7091280" y="4924440"/>
                  <a:ext cx="272160" cy="277560"/>
                  <a:chOff x="7091280" y="4924440"/>
                  <a:chExt cx="272160" cy="27756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710424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70912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7891200" y="4924440"/>
                  <a:ext cx="272160" cy="277560"/>
                  <a:chOff x="7891200" y="4924440"/>
                  <a:chExt cx="272160" cy="27756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>
                    <a:off x="7904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7891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7624800" y="4924440"/>
                  <a:ext cx="272160" cy="277560"/>
                  <a:chOff x="7624800" y="4924440"/>
                  <a:chExt cx="272160" cy="27756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763740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76248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X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8157960" y="4924440"/>
                  <a:ext cx="272160" cy="277560"/>
                  <a:chOff x="8157960" y="4924440"/>
                  <a:chExt cx="272160" cy="27756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8170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8157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Z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6" name=""/>
              <p:cNvGrpSpPr/>
              <p:nvPr/>
            </p:nvGrpSpPr>
            <p:grpSpPr>
              <a:xfrm>
                <a:off x="1519200" y="4924440"/>
                <a:ext cx="2662920" cy="277560"/>
                <a:chOff x="1519200" y="4924440"/>
                <a:chExt cx="2662920" cy="277560"/>
              </a:xfrm>
            </p:grpSpPr>
            <p:grpSp>
              <p:nvGrpSpPr>
                <p:cNvPr id="567" name=""/>
                <p:cNvGrpSpPr/>
                <p:nvPr/>
              </p:nvGrpSpPr>
              <p:grpSpPr>
                <a:xfrm>
                  <a:off x="1519200" y="4924440"/>
                  <a:ext cx="272160" cy="277560"/>
                  <a:chOff x="1519200" y="4924440"/>
                  <a:chExt cx="272160" cy="27756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1532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519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V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2052720" y="4924440"/>
                  <a:ext cx="272160" cy="277560"/>
                  <a:chOff x="2052720" y="4924440"/>
                  <a:chExt cx="272160" cy="27756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06568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05272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1785960" y="4924440"/>
                  <a:ext cx="272160" cy="277560"/>
                  <a:chOff x="1785960" y="4924440"/>
                  <a:chExt cx="272160" cy="2775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>
                    <a:off x="1798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1785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2585880" y="4924440"/>
                  <a:ext cx="272160" cy="277560"/>
                  <a:chOff x="2585880" y="4924440"/>
                  <a:chExt cx="272160" cy="2775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259884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5858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2319480" y="4924440"/>
                  <a:ext cx="272160" cy="277560"/>
                  <a:chOff x="2319480" y="4924440"/>
                  <a:chExt cx="272160" cy="27756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233208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3194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" name=""/>
                <p:cNvGrpSpPr/>
                <p:nvPr/>
              </p:nvGrpSpPr>
              <p:grpSpPr>
                <a:xfrm>
                  <a:off x="3119400" y="4924440"/>
                  <a:ext cx="272160" cy="277560"/>
                  <a:chOff x="3119400" y="4924440"/>
                  <a:chExt cx="272160" cy="27756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31323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31194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"/>
                <p:cNvGrpSpPr/>
                <p:nvPr/>
              </p:nvGrpSpPr>
              <p:grpSpPr>
                <a:xfrm>
                  <a:off x="2852640" y="4924440"/>
                  <a:ext cx="272160" cy="277560"/>
                  <a:chOff x="2852640" y="4924440"/>
                  <a:chExt cx="272160" cy="27756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286560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85264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3376800" y="4924440"/>
                  <a:ext cx="272160" cy="277560"/>
                  <a:chOff x="3376800" y="4924440"/>
                  <a:chExt cx="272160" cy="27756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338940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33768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3909960" y="4924440"/>
                  <a:ext cx="272160" cy="277560"/>
                  <a:chOff x="3909960" y="4924440"/>
                  <a:chExt cx="272160" cy="27756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>
                    <a:off x="3922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3909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F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3643200" y="4924440"/>
                  <a:ext cx="272160" cy="277560"/>
                  <a:chOff x="3643200" y="4924440"/>
                  <a:chExt cx="272160" cy="27756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3656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3643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7" name=""/>
              <p:cNvGrpSpPr/>
              <p:nvPr/>
            </p:nvGrpSpPr>
            <p:grpSpPr>
              <a:xfrm>
                <a:off x="4948200" y="4924440"/>
                <a:ext cx="272160" cy="277920"/>
                <a:chOff x="4948200" y="4924440"/>
                <a:chExt cx="272160" cy="27792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4960800" y="4924440"/>
                  <a:ext cx="258480" cy="257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948200" y="49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4177080" y="4924440"/>
                <a:ext cx="272160" cy="277560"/>
                <a:chOff x="4177080" y="4924440"/>
                <a:chExt cx="272160" cy="2775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4189680" y="4924440"/>
                  <a:ext cx="25848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417708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4443480" y="4924440"/>
                <a:ext cx="272160" cy="277560"/>
                <a:chOff x="4443480" y="4924440"/>
                <a:chExt cx="272160" cy="27756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4456440" y="492444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44348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4710240" y="4924440"/>
                <a:ext cx="272160" cy="277560"/>
                <a:chOff x="4710240" y="4924440"/>
                <a:chExt cx="272160" cy="27756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4723200" y="492444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71024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9" name=""/>
          <p:cNvSpPr/>
          <p:nvPr/>
        </p:nvSpPr>
        <p:spPr>
          <a:xfrm>
            <a:off x="3851640" y="3772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N E X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77640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067280" y="4124160"/>
            <a:ext cx="1000080" cy="4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3990600" y="5210280"/>
            <a:ext cx="109548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704680" y="4105440"/>
            <a:ext cx="1685880" cy="514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695680" y="5162400"/>
            <a:ext cx="1628640" cy="62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18608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762440" y="4124160"/>
            <a:ext cx="2924280" cy="4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781160" y="5191200"/>
            <a:ext cx="2962440" cy="61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59576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24600" y="4105440"/>
            <a:ext cx="1562040" cy="514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5219640" y="5257800"/>
            <a:ext cx="1447920" cy="54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02416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2FF74-3737-4573-9F23-06498D2DAB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lect the KeyWord cipher, CAP presents you with a KeyWord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1231920" y="3317760"/>
            <a:ext cx="7000920" cy="3200400"/>
          </a:xfrm>
          <a:prstGeom prst="rect">
            <a:avLst/>
          </a:prstGeom>
          <a:ln w="0">
            <a:noFill/>
          </a:ln>
        </p:spPr>
      </p:pic>
      <p:grpSp>
        <p:nvGrpSpPr>
          <p:cNvPr id="626" name=""/>
          <p:cNvGrpSpPr/>
          <p:nvPr/>
        </p:nvGrpSpPr>
        <p:grpSpPr>
          <a:xfrm>
            <a:off x="5261040" y="3475080"/>
            <a:ext cx="1160280" cy="666720"/>
            <a:chOff x="5261040" y="3475080"/>
            <a:chExt cx="1160280" cy="666720"/>
          </a:xfrm>
        </p:grpSpPr>
        <p:sp>
          <p:nvSpPr>
            <p:cNvPr id="627" name=""/>
            <p:cNvSpPr/>
            <p:nvPr/>
          </p:nvSpPr>
          <p:spPr>
            <a:xfrm>
              <a:off x="5261040" y="3475080"/>
              <a:ext cx="1160280" cy="666720"/>
            </a:xfrm>
            <a:prstGeom prst="wedgeRoundRectCallout">
              <a:avLst>
                <a:gd name="adj1" fmla="val -45620"/>
                <a:gd name="adj2" fmla="val 6381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42760" y="3497400"/>
              <a:ext cx="106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w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593720" y="2744640"/>
            <a:ext cx="1074960" cy="666720"/>
            <a:chOff x="1593720" y="2744640"/>
            <a:chExt cx="1074960" cy="666720"/>
          </a:xfrm>
        </p:grpSpPr>
        <p:sp>
          <p:nvSpPr>
            <p:cNvPr id="630" name=""/>
            <p:cNvSpPr/>
            <p:nvPr/>
          </p:nvSpPr>
          <p:spPr>
            <a:xfrm>
              <a:off x="1593720" y="2744640"/>
              <a:ext cx="1074960" cy="666720"/>
            </a:xfrm>
            <a:prstGeom prst="wedgeRoundRectCallout">
              <a:avLst>
                <a:gd name="adj1" fmla="val -45620"/>
                <a:gd name="adj2" fmla="val 6381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72920" y="2766960"/>
              <a:ext cx="9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 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761560" y="2798640"/>
            <a:ext cx="867600" cy="641520"/>
            <a:chOff x="2761560" y="2798640"/>
            <a:chExt cx="867600" cy="641520"/>
          </a:xfrm>
        </p:grpSpPr>
        <p:sp>
          <p:nvSpPr>
            <p:cNvPr id="633" name=""/>
            <p:cNvSpPr/>
            <p:nvPr/>
          </p:nvSpPr>
          <p:spPr>
            <a:xfrm>
              <a:off x="2811600" y="2832120"/>
              <a:ext cx="817560" cy="598320"/>
            </a:xfrm>
            <a:prstGeom prst="wedgeRoundRectCallout">
              <a:avLst>
                <a:gd name="adj1" fmla="val -66504"/>
                <a:gd name="adj2" fmla="val 63791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761560" y="2798640"/>
              <a:ext cx="834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cip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cip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5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45FF0-5501-43CD-B43C-601E0CEBBE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5T01:54:20Z</dcterms:modified>
  <cp:revision>52</cp:revision>
  <dc:subject/>
  <dc:title>CAP Cryptographic Analysis Program</dc:title>
</cp:coreProperties>
</file>